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09A-B18F-434F-8A60-BABC86E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525-6EE3-4349-88F5-DFC2F031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2D2D3-250C-4783-B890-56003037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9240A-83EF-4FBE-A333-F07D069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51C6-F4A6-45E0-8C9D-3079D1A0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4811-CC67-4878-AD7A-8CE6462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20E83-07A6-42E4-B32C-BE524E2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14298-F228-4EB8-8C3F-F25993F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7F29-ECE9-434F-A109-83BF5B1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DE598-C4D6-499C-ACD5-57B11826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6459-8619-4E19-9838-C2FFCE5A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16CAA-4B2C-4D19-BF21-5DD307F4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04C-8AA0-4D42-9067-513BFF78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9A57-7362-4F99-AF88-18E9E5A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31022-FC66-476C-9576-8EC9E56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82E0B-989F-483B-A6C2-FBF2EEF1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AB17F-81F1-458C-BCC7-4D83EBAE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4B9B0-E8D9-41B0-B22F-1BBEBC40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59CFA-396B-4D36-947E-E9C2E9E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E81C9-F7DA-4967-BB27-991522A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C4F31-F29B-4147-8FD3-729E9E8C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B7EC9-D738-41B8-9D3C-96F1807B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4B7BE-7531-4403-930F-7FD12D90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72B-8061-4544-8C09-4554D0A6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6F511-DEED-4961-8208-B341E952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6C155-C5EC-4999-8DEC-DCAC231F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EE3B0-A345-40D5-9787-DB4362B4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F2FE9-BC9C-4C53-8DE1-01E6C626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A13FC-04AB-41B0-8F01-CADAA4FC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2E433-E7D5-4422-BF41-0F19A93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8DE34-592C-43E8-AB27-E3F04440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E3E24-1046-4F7E-907A-5AB2D80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E7898-424F-4B6E-9052-35CF1E36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BCF9-3EFA-4A26-A257-63ED5423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118E-EB01-43B9-8034-3E52C0A0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82B4-E331-4C17-ACF1-2152352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7CE1D-AAAE-4F91-8BB7-F4F0A1B6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F1F1D-568D-4FFF-9163-DE4FA0CC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4834B-E874-43B3-98AF-7ECF3F27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DDC02-C618-4136-B284-6555A3B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941BC-FD9E-431D-B7BA-C3FAEF1C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D9A1F-B792-45C2-A2C5-A52221E0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22B37-2BAB-4D82-90E0-88C62C1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1D60F-658E-4007-913A-9426F613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DA687-34C9-4D2D-B886-869A88C2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E0D-360B-450C-9EC7-4517A2D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4259A-870F-446B-A915-A225595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AFD58-2F0B-4AC0-B8A5-C13FF49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71773-A26F-4829-B0DA-9614CE45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760A4-79B1-4EC0-833B-635C6157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DC27F-44F7-425B-8876-35EB33EC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11BE-E9F4-493E-B871-272FD760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1F2AE-F35F-4626-85D7-C850CB7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08756-57FC-47C0-A4A4-C84D7322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2B2BF-585C-4547-AA7D-34B9717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316C7-4764-46FF-8C25-6A8E0AD7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6AC3-065D-4742-86A2-CCCE0844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2A1EC-2758-4DC6-B2CF-536502A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22C97-6886-4662-9DCE-1D20062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B1F1C-DAAE-4DCA-94C1-1B42A30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A9605-20F1-4601-B0CF-31B54DD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96F74-A4A6-428E-B4D5-475EEDC8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BB2E2-B8AB-4B6C-8DE6-0E42AD45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06DA2-C331-4707-B75C-6F0FD0A6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4FC91-5F15-40D4-B357-236E0DB7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49BC1-26C3-4723-86B5-64D69B7A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D7F00-C9B4-45B9-8430-48231FF2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EC4-6D3E-4CE8-9DD6-610D61F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ECA61-B9FD-4AB4-809A-4B472F0B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62E03-5F85-4CE5-BE65-7C980FE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20A59-92CB-4A76-9D6B-DCA69638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A4C4C-8089-48B6-912B-2E1D5D2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6CF35-B0F1-4B67-B788-82785E6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E9ABB-9DB6-46FA-9CC1-CD3186CA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4C963-9BCB-482B-8464-6F8510E9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E9891-CE25-4091-A28D-EEA6ED4B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2D7132-5B19-4752-99CF-6C7F110E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CA9B4-CBF8-45C7-8882-3EFAB801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3DD-0E47-4809-AA3D-A49D2F13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CE39C-4534-4476-BD83-BD6A626B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C8341-6B2E-469C-9C23-4EB117D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1D7053-9C36-4BC2-AC3D-44E8E808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D5D1A-97DF-42D3-8269-3F640948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5F619-4B3C-4F24-B885-FAF49AB4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9643BC-8779-4982-A265-C4AE1984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4E6D1-EAFA-4C1C-9EE9-5A72C3D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7DB08-D738-4491-8BA1-634BBE4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12713-9F1A-4DF0-99DD-3C785B1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FC049-B33F-43CF-9301-BF164932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EB77-1F46-4D98-BCD7-99F6B5C4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6534F-8942-4A22-ABC6-564C38E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43799-A568-4ACD-B838-8743C819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A3D80-2AC1-4BF0-9BC4-3B007114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02C43-DD72-4766-8EA4-22BCC8E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FA2E1-4FA8-4607-A984-5874781B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72A3E-AB49-40F1-92D4-0CF3C8D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1D3A0-A95A-40BA-9135-22816320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7278F-54BC-4A63-8CBE-90A6140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FC3D5-15A9-40A3-A8E6-238C7EE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B4706-8E84-40AE-9FB8-712C57B4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A5B5-9258-4061-ADE5-C5F5B3A5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D6335-1144-40A6-886A-7AB8D4C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FE73B-F066-4EA9-99A2-8770CA40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CC769-3197-41C8-90F6-5724F733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7BFD6-0493-4859-A1A7-195588BC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A288F-4010-40BA-BCB8-133ADBFF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93F00-50B6-4B04-B870-AE309840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6E08D-7BFD-4DEB-9B78-7C39EDC0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D790D-4746-4974-83F3-B575CC8E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302196-EE40-44E0-A98C-F6D336E0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5A532-30D5-44C0-929E-39C42AA7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9D7-E4CB-4A17-B622-E628344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A6FF-1AC4-4E52-9262-04B6D21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91D58-D5A0-42AF-A8C6-6DF13FF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0B288-A5FE-4179-A5E2-0A63AD5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F486D-0842-4D80-B59E-95F17FB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026AC-5ADF-4EF7-8D24-23217B95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A78A6-1120-472C-BCD1-F1BB61F0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AB71E-5F8A-4851-9EBC-E980C2E4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A784B-208A-4C5F-B699-94A39D93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EED4B-A08D-407D-913D-51C935E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362E7-B9E1-4722-A070-F87E6E8F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8AD92-39EE-47ED-ABB6-AD1335F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F54-A267-43CD-811C-30982C3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054D5-1B44-42C0-A574-1F1D2E6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BA6EB6-2C00-4299-A6B0-C470176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9D534-0B5A-48C5-9BB5-641EA55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016D9-BB38-4282-ACB0-CB71EE1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EA0D1-59FD-4396-B1DF-F605065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A71D0-F34C-47FA-803A-127271A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0B9C7-1AD9-450D-9691-1B72FD23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69E0E-57C2-49AD-A806-B6634B94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E50AC2-C79B-4108-AF8F-102267A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A5C42-BB60-4E37-85D2-449F5D2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E035-224B-4ECC-86F4-0BC8BF67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9B678-ECE1-4FAB-9407-749C9AB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89CDF-4719-4F97-A953-F750DAA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20C55C-13C3-4C68-81EB-5700BE22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31583-429D-4E0D-A3B4-100BBB1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482A6-1C66-4531-85E5-5CFF4BD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858A2-F0A7-4F84-9D58-8EF03B7A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9D727-EE53-44FE-846E-C1B7412A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77FCA-9CA1-4133-9B55-C6188FB2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9210F-54C9-43FB-B6E6-998C7EB3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EBF33-C2D3-4BB1-AD4D-C2C674F7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CE3-FA58-4220-8678-0C0B7083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7F7B28-A1A5-4090-A80E-9339F606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E6EFC-2505-43FD-8167-33B7A9F4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86A89-BE71-4B4A-9772-11DEDDEE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0EF9C-7051-4274-A615-0008DB6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841D6A-716C-41A8-BB7F-3CF6DD4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80010-2C12-4FDA-A3A3-CE8401FC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9574E-9454-4D38-92B3-4F971A8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B451A-0DD5-4F23-912B-4025C034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462EB-E1B6-4242-B53A-96F4DA28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93FF3-59E9-464D-A0B8-5CFE5488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330-F455-426B-8955-3B05C6A5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6F41C-1A47-4E91-9FF5-7B44100E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0522C-955A-411A-9BB0-48B8D8B4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11C75-3304-4D74-B1AE-30CDF6A1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5ABAC-0C58-4A54-95AC-B7ECEFA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C4D0A-51B3-48A8-AA74-3E9DE83F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9B8ED-5C5A-4919-9F33-6C1FF73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E0C15-9CCF-4A0E-B0B3-A911E995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89923-2124-41C2-BE19-8C60167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D77E8-C6A7-4886-9F9E-A7917818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82E249-C6B1-4397-A876-FC9D7DAF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F64B-648F-4215-828C-24B125F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29EF6-A6FF-4096-8A81-6348B431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CBE12-814B-4FBE-944C-AB2BDB0C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F9F52-0AA5-4804-AD37-441A75C4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7C38-0264-44E9-998F-2AF31324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FC11-45C9-47D1-BB27-5401BDF2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EBC5-9B2B-437C-A889-DBB399AF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F1C7-83EE-4512-B8AB-766F1CA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148-B88F-4E4F-B7A8-A69C3DDF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B7E28-80C9-46F0-B509-296BE908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61A6-44BE-4B11-A1CA-858C2092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57B2-76EF-4DF6-B445-50A8A9A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5D47-8D2A-485E-8361-B2C1C93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2ECA-BEDD-4A4B-9302-D7B1F3A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F4B5-9278-48DC-843E-D182BC6D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96BB-516A-4BE5-88E4-0F4D868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DF57-833A-407B-80EC-1C98AD6C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A52D-DF33-4A86-B491-43EC728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B0C3-CE33-4EC0-B855-1892901B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565-D662-4AF5-979F-7FE4D1A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8B69-C14C-4DC5-84D9-9F5A0655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93CF-0BEE-4F40-ACE2-9642A6C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8CE14-8604-4DB8-B5F7-F62FE0A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239C-F7AF-43CB-878E-FA3818F9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0630A-4CBA-45A8-B26B-4EA854A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12F2-1FFC-4BCE-81D8-F9DA3CE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CE55-B001-4AA8-B333-5AC44CA8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BC46-78C5-44FF-8349-50376BCC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3DF9-830D-4984-BA72-2BD017E3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EC75-2360-43B4-8689-CF975030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6E1-77FD-4139-A843-B9227706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DC27-94F9-4EBB-8F46-0E0B33CE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799DE-4B8B-48E7-9E8E-AF9D87DD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5C59-62FC-42DD-B07F-F1727B3D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F19B5-CCD0-45F3-94B5-82D00C2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DFA90-66FB-4884-9B5C-2AC65BAE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057C3-97E4-4194-89F0-2F39A1D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4FD0-60C7-47E3-BA38-927DC12F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E637-2919-40E3-9D95-7866CC6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55B7-9F17-4A6E-AE63-2A809F2A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B00B-DEC5-4B2F-BB30-F848F943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F77-ED19-47E3-B506-C6730F1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E558-D117-4771-B087-ADE79D3A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3DE86-1BB6-4C7E-95E8-3E67B59B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CABFB-E6CE-4812-B341-30A0557F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430E-2627-4BE6-954F-4DB6FC55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3C98-9190-4BD1-9B4B-146C8EFE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9B130-A718-404E-BB40-207C9290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2C94F-090C-42F8-8766-AF8F9573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A5AC-15AD-45F6-B32A-7868524D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758C-6FA9-40FF-A9D2-69BE12DF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5E2D0-5419-4D91-AC04-B28DB2E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8BC-301B-43DE-908D-83805F19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A8CB0-B7FD-4114-A60B-53BDD8B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FF671-152E-493B-AE7C-8DA38E8B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1CD4-15AC-490F-A935-0C9B397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1F887-99AB-4B78-9E3A-8CCA87A9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B7522-A340-4D3F-845F-76F4D0E8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4BCF-3DB0-47E3-88A7-99DC3C84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BE1C-7D33-4B0D-8702-BE0DDE0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4DA4-3040-4D8F-BAC9-F4A1DE2D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E6F9F-0D69-487D-AB0D-CDFF8D7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7582-586C-4E5E-94F4-618857B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239-5409-49A5-BAC5-B59D0F8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A88BE-187C-4A4F-8241-6F92FE5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DC88-894E-4B1F-9C9E-36DBF17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48A5-0D7B-41FB-ACC5-E748E862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DC02-6D4B-4693-BE3D-F5F0CA6E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FE512-3B18-40B4-AAA1-483F8C77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2BB2-1CFA-44B6-91CE-02657033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E3E0-5D8D-4AE2-BB61-40C1761A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68D6-ECB3-4C91-8F53-5F35BBD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C9C0C-3A9F-45C5-8527-46AC1157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DCFD9-FB82-473E-946A-9CF1237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F40-DC6A-4B87-AB56-8D37EA4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5991-A632-4174-9A73-CF95446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4EC3-3E53-466E-B5A8-C842EE4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38341-ED08-4B4F-847B-652360B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8D80B-538A-49C9-89F7-D51C5E1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6CBB4-C818-46A3-A9DB-5E9118DA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9D2D-153B-4D0B-AD77-FD2C0554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C40D-019E-46F9-82B4-AE7153E0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A190F-AF55-46C1-BD15-E197AD2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FC3B0-B714-4D16-BE96-7493ED8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660E4-F48E-43EC-AFF6-ADD8FAB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C5C-6D01-4B76-86FB-622A5E824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3060-A630-4717-8302-E217CDB0F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8643-7F60-485C-8EA9-66690E079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66EE-9F38-4E8A-AA47-B8A8B5647E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4096-D384-4027-A212-EA0763778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41ED-80E1-4AAC-B1B4-714D020355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3364-27FF-4D25-9998-A0778EC11D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9ED0-2844-487D-B1CF-A6214263CE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7FED-C51A-48D6-9A98-B58A7B3FC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ECC0-3901-4F7C-9A69-A9D5067B5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EA9D-7124-430A-9442-F853C97C5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1EBB-0551-433C-964D-88FFD054CA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EF4-D286-4A86-857E-6B9C5C7C3F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7A7C-DD76-4693-BB46-FD882E032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AA32-AC34-4C3E-920D-F79A1A7FF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478-D85D-4126-9AE0-5F5A12DB2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890-D630-4056-B249-875A96415F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B2CE-77A3-429E-9CEF-7100791966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054-B487-4F6A-A42B-F665919A2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6A88-639A-4668-AD4D-E3DC64796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413-2C03-40BB-9DE2-F93A6AB90C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D666-B78F-43FB-B865-73E9D5DF7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376-CFE1-4044-85BE-F565477CE5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E02-FCE3-448B-9AB4-BDF5217466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D4E4-E515-448B-9A96-DB5F31ED78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D02C-4625-4014-BEB3-D3F3BC512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B53-5193-416A-A553-2B56F6B5A1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98E-0CBE-4E33-A9A6-DF5FECCB6F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18E-F97D-49D4-B2E9-250E8F44A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01C7-623A-4AAC-8B5F-0A4B82F4E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2C80-0E06-4500-9CC5-35C0B6E60F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5025-4D03-4F06-B269-58E27F2B5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79A-F3B1-4C93-8F53-1F6453327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DE1-3712-44BA-8BC2-199BE3C6C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53BE-B6A4-4891-A6CE-D0538E1B9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F2D7-AB46-445C-93BC-E3574B8E5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734D-69F9-4A3D-8D02-604C99AC4E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1D0D-171C-492E-BC8F-590834B04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78F0-DACE-4AAA-B51D-7BDAC8933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00C-A163-447F-8C4C-E59CE27DF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95600" y="3147840"/>
            <a:ext cx="39528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38240" y="1052640"/>
            <a:ext cx="8867520" cy="4752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76720" y="3924360"/>
            <a:ext cx="718920" cy="301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719280" cy="301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57560" y="4562640"/>
            <a:ext cx="719280" cy="301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6920" y="5526000"/>
            <a:ext cx="47530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1004760" y="1800360"/>
            <a:ext cx="71344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347760" y="1467000"/>
            <a:ext cx="8448480" cy="3924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4500720" y="270828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059280" y="3078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3780000" y="3078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4500720" y="307800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755640" y="3770280"/>
            <a:ext cx="4176720" cy="301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1042920" y="440388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755640" y="505152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8440560" y="215280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8450280" y="2565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3"/>
          <a:stretch/>
        </p:blipFill>
        <p:spPr>
          <a:xfrm>
            <a:off x="8450280" y="2997360"/>
            <a:ext cx="431640" cy="301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4"/>
          <a:stretch/>
        </p:blipFill>
        <p:spPr>
          <a:xfrm>
            <a:off x="8440560" y="3357720"/>
            <a:ext cx="432000" cy="301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5"/>
          <a:stretch/>
        </p:blipFill>
        <p:spPr>
          <a:xfrm>
            <a:off x="8450280" y="3789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6"/>
          <a:stretch/>
        </p:blipFill>
        <p:spPr>
          <a:xfrm>
            <a:off x="8440560" y="4221000"/>
            <a:ext cx="432000" cy="301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7"/>
          <a:stretch/>
        </p:blipFill>
        <p:spPr>
          <a:xfrm>
            <a:off x="8450280" y="4581360"/>
            <a:ext cx="431640" cy="3016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8"/>
          <a:stretch/>
        </p:blipFill>
        <p:spPr>
          <a:xfrm>
            <a:off x="8440560" y="5013360"/>
            <a:ext cx="43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23:3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